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10.jpeg" ContentType="image/jpeg"/>
  <Override PartName="/ppt/media/image8.jpeg" ContentType="image/jpeg"/>
  <Override PartName="/ppt/media/image2.gif" ContentType="image/gif"/>
  <Override PartName="/ppt/media/image5.png" ContentType="image/png"/>
  <Override PartName="/ppt/media/image9.png" ContentType="image/png"/>
  <Override PartName="/ppt/media/image29.gif" ContentType="image/gif"/>
  <Override PartName="/ppt/media/image7.png" ContentType="image/png"/>
  <Override PartName="/ppt/media/image1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image6.png" ContentType="image/png"/>
  <Override PartName="/ppt/media/image28.jpeg" ContentType="image/jpeg"/>
  <Override PartName="/ppt/media/image27.png" ContentType="image/png"/>
  <Override PartName="/ppt/media/image26.jpeg" ContentType="image/jpeg"/>
  <Override PartName="/ppt/media/image19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A66A-3F53-4DC4-B9A6-C00AEC373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BC77-3ACB-4A7E-892F-7AAE0BD5D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3155-4870-4277-A553-55ADA3545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34AF-0958-41E3-A426-5AF075DB6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86716F-BFEC-430C-A34D-67228DB97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7DF592-DFBB-4348-895E-5910F4713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7FB742-0F01-4294-BDFC-E20E5E09F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23F81E-06E8-4BF1-BD33-1F0758567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8CCEAB-3247-402A-A848-CD111C5CB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DDB4F4-3875-460E-B0F5-ECAF63200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FA969A-6366-46FC-B7D5-7622A499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35B4-484C-41AF-BE9E-99468194F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16D0A9-A15D-424E-BE74-E05CFE66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A65159-B9DF-46B3-884F-779E4B79D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35F8D9-3976-4B1F-BEB0-F0C91A2EF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1C756C-6321-4106-AF0E-52DB8B924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144431-2F47-4E91-83B7-197935B83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CF77A-EE60-42EE-86DB-4B8036A5F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39056-5D84-4555-AF0E-36FCB0DFC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E0B2B-0466-4D62-8FD8-A0961EDE0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AE553-AE15-412A-8025-910A7A505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4DFCC-0297-4608-9319-E0E627018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87B9-1350-4EDE-91D4-EF4703CE0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EC8DE-E923-411F-8309-178895AC3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C4F12-9A6E-4024-87F9-46E064D7D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AF1F3-DAF4-495D-A341-CAA5CCC3D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9841B-F948-4E22-B9E2-CF84821AE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1D054-D585-4B45-AC49-1058D953D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5CEBA-E44F-4633-B5F7-CC8A664EB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D633E-7237-4A53-A630-4C9E2DE74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38AA11-6649-4EEB-A236-46B5FAC7E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E19817-3D48-4563-82CA-C7EF442F5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0EF11F-CEA7-4681-8393-FB6A24E76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7FAB-388F-417F-B8E1-3E95522A9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0D2B87-6F05-4AFF-82AA-B8CCBAD67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82FFF5-0451-431F-8697-80D937E96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03C0C3-6EC9-452F-A08E-D3113E091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092BA9-15E3-4A65-85FD-DED9AB5B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B81A3D-5FE1-45EC-939F-E1223C23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AF06B3-B0D7-4B14-BC2D-A0489728E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8BE505-7F3A-4C90-BFDB-353C30848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5C9567-0438-434E-94E8-0DBF2BF3F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4A02E5-17CC-4C37-A74D-11BBE548E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A737-65D2-4B65-8872-6D79B63EE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428A-1BB7-4C19-B2D6-5DC0468C6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B006-700F-4A82-AFD8-FFD74AFB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86BD-24C2-4EBE-A7DE-E6C153E42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5488-1BEA-49E7-880D-AF0B64FA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0A2C2-EFC3-4664-998B-6FC4FC69D1D8}" type="slidenum">
              <a:rPr b="0" lang="ru-RU" sz="1600" spc="-1" strike="noStrike">
                <a:solidFill>
                  <a:srgbClr val="444d2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fffe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fffe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8A286-EBA1-4F9A-B988-B8B23FA0C794}" type="slidenum">
              <a:rPr b="0" lang="ru-RU" sz="1600" spc="-1" strike="noStrike">
                <a:solidFill>
                  <a:srgbClr val="444d2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3439A-DCDB-43F7-824A-CD0AC984C4D7}" type="slidenum">
              <a:rPr b="0" lang="ru-RU" sz="1600" spc="-1" strike="noStrike">
                <a:solidFill>
                  <a:srgbClr val="444d2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fffe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fffe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F15DB-F40F-43F6-A8B4-54416FADEBDC}" type="slidenum">
              <a:rPr b="0" lang="ru-RU" sz="1600" spc="-1" strike="noStrike">
                <a:solidFill>
                  <a:srgbClr val="444d2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9.png"/><Relationship Id="rId3" Type="http://schemas.openxmlformats.org/officeDocument/2006/relationships/image" Target="../media/image29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0_663ca_3d149383_XL"/>
          <p:cNvPicPr/>
          <p:nvPr/>
        </p:nvPicPr>
        <p:blipFill>
          <a:blip r:embed="rId1"/>
          <a:stretch/>
        </p:blipFill>
        <p:spPr>
          <a:xfrm>
            <a:off x="1143000" y="171360"/>
            <a:ext cx="6858000" cy="65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0" y="3733560"/>
            <a:ext cx="8305920" cy="23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двиг воронежцев и Воронежа в Великой Отечественной войне позднее был отмечен высокими правительственными наградами: в 1975 году город Воронеж был награжден орденом Отечественной войны I степени, в 1986 году – Орденом Ленина, в 2008 году Воронежу было присвоено почетное звание РФ «Город воинской славы»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Picture 4" descr="3257_1_big"/>
          <p:cNvPicPr/>
          <p:nvPr/>
        </p:nvPicPr>
        <p:blipFill>
          <a:blip r:embed="rId1"/>
          <a:stretch/>
        </p:blipFill>
        <p:spPr>
          <a:xfrm>
            <a:off x="533520" y="152280"/>
            <a:ext cx="4876560" cy="32958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image"/>
          <p:cNvPicPr/>
          <p:nvPr/>
        </p:nvPicPr>
        <p:blipFill>
          <a:blip r:embed="rId2"/>
          <a:stretch/>
        </p:blipFill>
        <p:spPr>
          <a:xfrm>
            <a:off x="5105520" y="5437080"/>
            <a:ext cx="2819160" cy="14209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7" descr="86182098_9_may_70"/>
          <p:cNvPicPr/>
          <p:nvPr/>
        </p:nvPicPr>
        <p:blipFill>
          <a:blip r:embed="rId3"/>
          <a:stretch/>
        </p:blipFill>
        <p:spPr>
          <a:xfrm>
            <a:off x="5761080" y="228600"/>
            <a:ext cx="2970000" cy="3429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1066680" y="3962520"/>
            <a:ext cx="73152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4d26"/>
                </a:solidFill>
                <a:latin typeface="Constantia"/>
              </a:rPr>
              <a:t>22 июня 1941 года мирная жизнь нашего народа была прервана. Фашистская Германия, нарушив акт о ненападении, вторглась на территорию Советского Союза. И, чтобы не оказаться в фашистском рабстве, ради спасения Родины народ вступил в схватку с коварным, жестоким и беспощадным враго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2" name="Rectangle 2" descr=""/>
          <p:cNvPicPr/>
          <p:nvPr/>
        </p:nvPicPr>
        <p:blipFill>
          <a:blip r:embed="rId1"/>
          <a:stretch/>
        </p:blipFill>
        <p:spPr>
          <a:xfrm>
            <a:off x="682560" y="2120760"/>
            <a:ext cx="238320" cy="148752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4"/>
          <p:cNvSpPr/>
          <p:nvPr/>
        </p:nvSpPr>
        <p:spPr>
          <a:xfrm>
            <a:off x="457200" y="38088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х, война, что ж ты сделала, подла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6" descr="i"/>
          <p:cNvPicPr/>
          <p:nvPr/>
        </p:nvPicPr>
        <p:blipFill>
          <a:blip r:embed="rId2"/>
          <a:stretch/>
        </p:blipFill>
        <p:spPr>
          <a:xfrm>
            <a:off x="2819520" y="1085760"/>
            <a:ext cx="3429000" cy="28749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image"/>
          <p:cNvPicPr/>
          <p:nvPr/>
        </p:nvPicPr>
        <p:blipFill>
          <a:blip r:embed="rId3"/>
          <a:stretch/>
        </p:blipFill>
        <p:spPr>
          <a:xfrm>
            <a:off x="3429000" y="6095880"/>
            <a:ext cx="1905120" cy="9590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8" descr=""/>
          <p:cNvPicPr/>
          <p:nvPr/>
        </p:nvPicPr>
        <p:blipFill>
          <a:blip r:embed="rId4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"/>
          <p:cNvPicPr/>
          <p:nvPr/>
        </p:nvPicPr>
        <p:blipFill>
          <a:blip r:embed="rId5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9" descr=""/>
          <p:cNvPicPr/>
          <p:nvPr/>
        </p:nvPicPr>
        <p:blipFill>
          <a:blip r:embed="rId6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" descr=""/>
          <p:cNvPicPr/>
          <p:nvPr/>
        </p:nvPicPr>
        <p:blipFill>
          <a:blip r:embed="rId7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1" descr=""/>
          <p:cNvPicPr/>
          <p:nvPr/>
        </p:nvPicPr>
        <p:blipFill>
          <a:blip r:embed="rId8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2" descr=""/>
          <p:cNvPicPr/>
          <p:nvPr/>
        </p:nvPicPr>
        <p:blipFill>
          <a:blip r:embed="rId9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3" descr=""/>
          <p:cNvPicPr/>
          <p:nvPr/>
        </p:nvPicPr>
        <p:blipFill>
          <a:blip r:embed="rId10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pic>
        <p:nvPicPr>
          <p:cNvPr id="183" name="Ах, война.mp3" descr=""/>
          <p:cNvPicPr/>
          <p:nvPr/>
        </p:nvPicPr>
        <p:blipFill>
          <a:blip r:embed="rId11"/>
          <a:stretch/>
        </p:blipFill>
        <p:spPr>
          <a:xfrm>
            <a:off x="7848720" y="1295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0509" fill="hold"/>
                                        <p:tgtEl>
                                          <p:spTgt spid="1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0" y="3200040"/>
            <a:ext cx="6858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еликий подвиг совершили воронежцы в годы Великой Отечественной войны. Сотни тысяч наших земляков отважно сражались за свободу родного города и родной страны. Они защищали Москву и Ленинград, участвовали в Сталинградской и Курской битвах, освобождали Варшаву и Прагу, штурмовали Берлин. Около 300 воронежцев за проявленный героизм и мужество присвоено звание Героя Советского Союз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месте со взрослыми в военных действиях принимали участие и совсем юные жители Воронежской области. Многие школьники тайком уходили из дома на фронт, становились связными и разведчиками. Неоценим подвиг юных героев: Кости Феоктистова, Кости Стрелюка, Лили Федодеевой и других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85" name="Picture 4" descr="i"/>
          <p:cNvPicPr/>
          <p:nvPr/>
        </p:nvPicPr>
        <p:blipFill>
          <a:blip r:embed="rId1"/>
          <a:stretch/>
        </p:blipFill>
        <p:spPr>
          <a:xfrm>
            <a:off x="2514600" y="157320"/>
            <a:ext cx="4495680" cy="29462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image"/>
          <p:cNvPicPr/>
          <p:nvPr/>
        </p:nvPicPr>
        <p:blipFill>
          <a:blip r:embed="rId2"/>
          <a:stretch/>
        </p:blipFill>
        <p:spPr>
          <a:xfrm>
            <a:off x="6477120" y="5181480"/>
            <a:ext cx="2666880" cy="1343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7631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6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Вместе со всем народом на борьбу с гитлеровцами поднялись юные жители Воронежской области. Они помогали взрослым не только в тылу, но и в прифронтовых районах и на фронте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6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Они были связными партизанских отрядов, разведчиками регулярных частей Советской Армии, красными орлятами воронежских сел и городов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6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Маленькие герои переходили линию фронта, подобно лискинской школьнице Лиле Федодеевой, которая не раз переправлялась на захваченный фашистами берег Дона, собирала сведения и сообщала о них советскому командованию. Многие пионеры уходили тайком из дома и становились сыновьями полков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88" name="Picture 4" descr="1003635-i_004"/>
          <p:cNvPicPr/>
          <p:nvPr/>
        </p:nvPicPr>
        <p:blipFill>
          <a:blip r:embed="rId1"/>
          <a:stretch/>
        </p:blipFill>
        <p:spPr>
          <a:xfrm>
            <a:off x="685800" y="3886200"/>
            <a:ext cx="2895480" cy="18223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0_4482a_1c165a83_XL"/>
          <p:cNvPicPr/>
          <p:nvPr/>
        </p:nvPicPr>
        <p:blipFill>
          <a:blip r:embed="rId2"/>
          <a:stretch/>
        </p:blipFill>
        <p:spPr>
          <a:xfrm>
            <a:off x="6799320" y="3886200"/>
            <a:ext cx="1508040" cy="22096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4e5ca911a99ct"/>
          <p:cNvPicPr/>
          <p:nvPr/>
        </p:nvPicPr>
        <p:blipFill>
          <a:blip r:embed="rId3"/>
          <a:stretch/>
        </p:blipFill>
        <p:spPr>
          <a:xfrm>
            <a:off x="4267080" y="3657600"/>
            <a:ext cx="1774800" cy="26478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7" descr="image"/>
          <p:cNvPicPr/>
          <p:nvPr/>
        </p:nvPicPr>
        <p:blipFill>
          <a:blip r:embed="rId4"/>
          <a:stretch/>
        </p:blipFill>
        <p:spPr>
          <a:xfrm>
            <a:off x="1066680" y="5630760"/>
            <a:ext cx="2438640" cy="12272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23623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Летом 1942 г. юный разведчик Костя Феоктистов не раз переправлялся через р. Воронеж с левого берега на правый, чтобы раздобыть ценные сведения для советского командования. Однажды он был схвачен фашистами, ранен, едва остался жив, но и на этот раз выполнил боевое задание. Тогда воронежскому школьнику Косте Феоктистову было 16 лет. Сейчас это известный всему миру летчик-космонавт, Герой Советского Союз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3" name="Picture 4" descr="i"/>
          <p:cNvPicPr/>
          <p:nvPr/>
        </p:nvPicPr>
        <p:blipFill>
          <a:blip r:embed="rId1"/>
          <a:stretch/>
        </p:blipFill>
        <p:spPr>
          <a:xfrm>
            <a:off x="380880" y="304920"/>
            <a:ext cx="2194200" cy="304776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5"/>
          <p:cNvSpPr/>
          <p:nvPr/>
        </p:nvSpPr>
        <p:spPr>
          <a:xfrm>
            <a:off x="2684520" y="914400"/>
            <a:ext cx="377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еоктистов Константин Петр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6" descr="image"/>
          <p:cNvPicPr/>
          <p:nvPr/>
        </p:nvPicPr>
        <p:blipFill>
          <a:blip r:embed="rId2"/>
          <a:stretch/>
        </p:blipFill>
        <p:spPr>
          <a:xfrm>
            <a:off x="304920" y="5105520"/>
            <a:ext cx="2895480" cy="1458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1752480" y="2971800"/>
            <a:ext cx="7391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Костя Стрелюк был учеником воронежской школы № 1 (ныне № 11). На фронт ушел добровольцем. Попал в прославленный партизанский отряд С. А. Ковпака, где стал разведчиком. Немало партизанских походов проделал Костя Стрелюк. Стрелюк будучи в разведке попал на засаду националистов, быстро разгадав замысел противника бросился вперёд увлекая за собой бойцов. Засада противника была уничтожена. В этом бою тов. Стрелюк уничтожил 5 бендеровцев и был ранен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огиб юный разведчик смертью героя на Украине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трелюк награждён орденом Красного Знамени. Осенью 1943 г. он награждается орденом Отечественной войны I степени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7" name="Picture 5" descr="f"/>
          <p:cNvPicPr/>
          <p:nvPr/>
        </p:nvPicPr>
        <p:blipFill>
          <a:blip r:embed="rId1"/>
          <a:stretch/>
        </p:blipFill>
        <p:spPr>
          <a:xfrm>
            <a:off x="457200" y="171360"/>
            <a:ext cx="3200400" cy="240048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6"/>
          <p:cNvSpPr/>
          <p:nvPr/>
        </p:nvSpPr>
        <p:spPr>
          <a:xfrm>
            <a:off x="5486400" y="10666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стя Стрелю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6" descr="image"/>
          <p:cNvPicPr/>
          <p:nvPr/>
        </p:nvPicPr>
        <p:blipFill>
          <a:blip r:embed="rId2"/>
          <a:stretch/>
        </p:blipFill>
        <p:spPr>
          <a:xfrm>
            <a:off x="380880" y="5562720"/>
            <a:ext cx="1752840" cy="882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-360" y="3276360"/>
            <a:ext cx="3809880" cy="28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Исключительный героизм проявил в оборонительных боях на Курской дуге воронежец Дмитрий Чеботарев. Наводчик противотанкового орудия, он уничтожил 4 вражеских танка и самоходку. Даже будучи раненым, Дмитрий не покинул поле боя и поджег еще два танка. Погиб Д. Чеботарев 6 июля 1943 г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086240" y="3276720"/>
            <a:ext cx="2057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На братской могиле в селе Ольховатка Поныровского района Курской области РФ., где похоронен Д. Ф. Чеботарёв, создан Мемориал героям Северного фаса Курской дуги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Picture 4" descr="230px-Чеботарев_Дмитрий_Федорович_2"/>
          <p:cNvPicPr/>
          <p:nvPr/>
        </p:nvPicPr>
        <p:blipFill>
          <a:blip r:embed="rId1"/>
          <a:stretch/>
        </p:blipFill>
        <p:spPr>
          <a:xfrm>
            <a:off x="380880" y="228600"/>
            <a:ext cx="1986120" cy="304812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3413160" y="68580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митрий Чеботар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9" descr="453px-Памятный_знак_на_месте_последнего_боя_расчета_Чеботарева_Д"/>
          <p:cNvPicPr/>
          <p:nvPr/>
        </p:nvPicPr>
        <p:blipFill>
          <a:blip r:embed="rId2"/>
          <a:stretch/>
        </p:blipFill>
        <p:spPr>
          <a:xfrm>
            <a:off x="4267080" y="2514600"/>
            <a:ext cx="3167280" cy="41911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" descr="image"/>
          <p:cNvPicPr/>
          <p:nvPr/>
        </p:nvPicPr>
        <p:blipFill>
          <a:blip r:embed="rId3"/>
          <a:stretch/>
        </p:blipFill>
        <p:spPr>
          <a:xfrm>
            <a:off x="3124080" y="5591160"/>
            <a:ext cx="2514600" cy="1266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533520" y="3733560"/>
            <a:ext cx="861048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Женщины, дети и старики заменили ушедших на фронт мужчин. Они работали на заводах и занимались сельским хозяйством, водили и ремонтировали тракторы и комбайны, вручную сажали поля и убирали урожай, лечили раненых и ухаживали за бойцами в госпиталях. Кроме того, во многих районах области пионерами были созданы мастерские по изготовлению различных вещей для фронта. Ребята отправляли нашим солдатам носки, варежки, кисеты, носовые платки, а подарки детей вдохновляли бойцов на новые подвиг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4" descr="i"/>
          <p:cNvPicPr/>
          <p:nvPr/>
        </p:nvPicPr>
        <p:blipFill>
          <a:blip r:embed="rId1"/>
          <a:stretch/>
        </p:blipFill>
        <p:spPr>
          <a:xfrm>
            <a:off x="533520" y="22860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img16"/>
          <p:cNvPicPr/>
          <p:nvPr/>
        </p:nvPicPr>
        <p:blipFill>
          <a:blip r:embed="rId2"/>
          <a:stretch/>
        </p:blipFill>
        <p:spPr>
          <a:xfrm>
            <a:off x="4724280" y="228600"/>
            <a:ext cx="3733920" cy="28004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6" descr="image"/>
          <p:cNvPicPr/>
          <p:nvPr/>
        </p:nvPicPr>
        <p:blipFill>
          <a:blip r:embed="rId3"/>
          <a:stretch/>
        </p:blipFill>
        <p:spPr>
          <a:xfrm>
            <a:off x="3886200" y="5562720"/>
            <a:ext cx="2133720" cy="1074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952880" y="3580920"/>
            <a:ext cx="419112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Мы не слышали взрывов бомб, сигналов воздушной тревог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о когда мы спрашиваем взрослых о войне, мы узнаем, что почти в каждой семье кто – то погиб, пропал без вести, был ранен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Picture 13" descr="scan0018"/>
          <p:cNvPicPr/>
          <p:nvPr/>
        </p:nvPicPr>
        <p:blipFill>
          <a:blip r:embed="rId1"/>
          <a:stretch/>
        </p:blipFill>
        <p:spPr>
          <a:xfrm>
            <a:off x="304920" y="152280"/>
            <a:ext cx="2712960" cy="37339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4" descr="scan0013"/>
          <p:cNvPicPr/>
          <p:nvPr/>
        </p:nvPicPr>
        <p:blipFill>
          <a:blip r:embed="rId2"/>
          <a:stretch/>
        </p:blipFill>
        <p:spPr>
          <a:xfrm>
            <a:off x="609480" y="3827520"/>
            <a:ext cx="1667160" cy="2573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5" descr="ав"/>
          <p:cNvPicPr/>
          <p:nvPr/>
        </p:nvPicPr>
        <p:blipFill>
          <a:blip r:embed="rId3"/>
          <a:stretch/>
        </p:blipFill>
        <p:spPr>
          <a:xfrm>
            <a:off x="3200400" y="152280"/>
            <a:ext cx="1521000" cy="2286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6" descr="1 (2)"/>
          <p:cNvPicPr/>
          <p:nvPr/>
        </p:nvPicPr>
        <p:blipFill>
          <a:blip r:embed="rId4"/>
          <a:stretch/>
        </p:blipFill>
        <p:spPr>
          <a:xfrm>
            <a:off x="5410080" y="152280"/>
            <a:ext cx="3733920" cy="200052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18"/>
          <p:cNvSpPr/>
          <p:nvPr/>
        </p:nvSpPr>
        <p:spPr>
          <a:xfrm>
            <a:off x="2438280" y="536868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коле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вел Михайл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9"/>
          <p:cNvSpPr/>
          <p:nvPr/>
        </p:nvSpPr>
        <p:spPr>
          <a:xfrm>
            <a:off x="3124080" y="254916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коле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мен Михайл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0" descr="image"/>
          <p:cNvPicPr/>
          <p:nvPr/>
        </p:nvPicPr>
        <p:blipFill>
          <a:blip r:embed="rId5"/>
          <a:stretch/>
        </p:blipFill>
        <p:spPr>
          <a:xfrm>
            <a:off x="3581280" y="5937120"/>
            <a:ext cx="1828800" cy="920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трединина</cp:lastModifiedBy>
  <dcterms:modified xsi:type="dcterms:W3CDTF">2013-05-06T14:56:27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